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C72-B49C-4C31-B273-4CBA2E97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E0C-227D-4E94-8281-3345870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ABD-FF3F-4584-ABFD-9A84AF1B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36D-0701-42CC-A25D-9801C1F0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76C-04E8-4D8A-B6BB-7BBC357C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EDD-E6C9-4DAC-A7EB-41DD694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E69-7676-4F18-AECC-FE53BF13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80E-00A7-4A43-B2FE-77453BC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76A-5FB0-4EBB-A589-332AC69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FB8-448A-4D32-AC20-EF295249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2E1-3314-44ED-9032-DA7A901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A2C-4B37-4031-A74C-69942A3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3D1B-29A3-449D-BFDD-CB3C4121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1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Focus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77336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pecific Schedules (looking at one shot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1) Movement Analysis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2) Scatter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pecific Sched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773360"/>
            <a:ext cx="845820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en describing each we mu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iv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how it looks (dia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how it is carrie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the environment it is carried ou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205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plain why these tests were appropriate (4)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y are these test appropri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845820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Relevant to badmin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roduce factu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rovide statistics (scatter grap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Specific to you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an be re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an be kept as a perman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an repeat and compar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197000"/>
            <a:ext cx="84582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1 and 2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Refer to the help sheets you have been issu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5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81532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scribe and explain the cycle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scribe how we gain initial data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scribe how we gain focused data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why these methods a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00200"/>
            <a:ext cx="89154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MUST pass this in order to sit the final ex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NAB is split into 4 part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will do parts 1 and 4 as home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do parts 2 and 3 under exam conditions in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066680"/>
            <a:ext cx="320040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B Par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413000"/>
            <a:ext cx="84582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s relate to Stages 1,2 and 3 of Cycle of Analy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t relates to observing and analysing you performance to identify strengths and weaknesses and determine development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scribe the methods you used to identify your performance strengths and weakness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 this question you must describe initial and focused data you have carri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niti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70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ation of Quality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sideration of Quality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77336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p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ive 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be how it looks (diagr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be how it is car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be the environment it is carried ou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17T16:54:25Z</dcterms:modified>
  <cp:revision>20</cp:revision>
  <dc:subject/>
  <dc:title>Intermediate PE</dc:title>
</cp:coreProperties>
</file>